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BCDD-3701-4182-BA92-E6D016D27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3577-670A-496E-B5B3-25E3C56B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DDC-837C-475C-AA78-DF442F74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F1C-4999-47EF-9C2D-F2FBA00D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74B-A61C-43EF-A383-253D75BC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A1C5-4EEB-40C3-BF64-C4A0FF95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D097-CF44-4754-9A4F-299E94DA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CCD3-5448-4225-8446-978CF94B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9CA3-D6B5-4DE6-A659-13A70EE8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B29D-0BBB-420B-A766-F5DE8A6D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D7E6-6DD5-4AF6-BF63-E25E68AD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72D6-3F36-4B20-9AD1-D11CE2E2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EBF-1176-4089-9795-078C4F39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1047-C549-4833-8F03-11188381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5565-2435-485C-98FF-27BA32C4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C3A1-A7CD-4327-90ED-D2DEA703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5905-CC26-4E0B-8106-E7F3F258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C1FA-7937-4B6D-80B8-3F8665BD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CAFE-F547-4872-AE47-884E230F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97E-D808-408A-807A-1F2F5552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834-5EF8-4B03-BE14-020BF338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1CA-994F-48F1-855E-6C33AFCF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FE3-3C0B-49EA-802C-B05E17E3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813-8A7C-4EC2-8EC8-25A4F0F2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923-8C1B-424E-8FA6-10F030A4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773B-7C1C-4BAD-ADFA-839276FF175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0C0B-6C0D-44FB-A265-8B5A17ABA23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elf-Disciplin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Restrai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0149481"/>
          <p:cNvPicPr/>
          <p:nvPr/>
        </p:nvPicPr>
        <p:blipFill>
          <a:blip r:embed="rId1"/>
          <a:stretch/>
        </p:blipFill>
        <p:spPr>
          <a:xfrm>
            <a:off x="5181480" y="1986120"/>
            <a:ext cx="297180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u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76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j0186348"/>
          <p:cNvPicPr/>
          <p:nvPr/>
        </p:nvPicPr>
        <p:blipFill>
          <a:blip r:embed="rId1"/>
          <a:stretch/>
        </p:blipFill>
        <p:spPr>
          <a:xfrm>
            <a:off x="5410080" y="1981080"/>
            <a:ext cx="26672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uppor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Discipline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Managemen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nternal Chain-of-Comman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Foundation of Self-Discipline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Self-Discipline Question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inking about your words and actions, and then making choices that are right for you and other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9" descr="j0195384"/>
          <p:cNvPicPr/>
          <p:nvPr/>
        </p:nvPicPr>
        <p:blipFill>
          <a:blip r:embed="rId1"/>
          <a:stretch/>
        </p:blipFill>
        <p:spPr>
          <a:xfrm>
            <a:off x="3351240" y="3902040"/>
            <a:ext cx="1798560" cy="18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Black Bea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“Black Bear”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3212640"/>
            <a:ext cx="716760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atient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monstrating uncomplaining endurance under distres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33"/>
                </a:solidFill>
                <a:latin typeface="Garamond"/>
              </a:rPr>
              <a:t>Key Concepts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Focu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8440" y="13716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j0216724"/>
          <p:cNvPicPr/>
          <p:nvPr/>
        </p:nvPicPr>
        <p:blipFill>
          <a:blip r:embed="rId1"/>
          <a:stretch/>
        </p:blipFill>
        <p:spPr>
          <a:xfrm>
            <a:off x="5791320" y="2077920"/>
            <a:ext cx="2359080" cy="27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Disce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j0292152"/>
          <p:cNvPicPr/>
          <p:nvPr/>
        </p:nvPicPr>
        <p:blipFill>
          <a:blip r:embed="rId1"/>
          <a:stretch/>
        </p:blipFill>
        <p:spPr>
          <a:xfrm>
            <a:off x="5334120" y="198108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07Z</dcterms:modified>
  <cp:revision>13</cp:revision>
  <dc:subject/>
  <dc:title>Character Education Self-discipline</dc:title>
</cp:coreProperties>
</file>